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.gif" ContentType="image/gif"/>
  <Override PartName="/ppt/media/image5.png" ContentType="image/png"/>
  <Override PartName="/ppt/media/whoosh.wav" ContentType="audio/x-wav"/>
  <Override PartName="/ppt/media/image10.gif" ContentType="image/gif"/>
  <Override PartName="/ppt/media/image9.gif" ContentType="image/gif"/>
  <Override PartName="/ppt/media/image22.wmf" ContentType="image/x-wmf"/>
  <Override PartName="/ppt/media/image7.gif" ContentType="image/gif"/>
  <Override PartName="/ppt/media/image11.gif" ContentType="image/gif"/>
  <Override PartName="/ppt/media/image6.gif" ContentType="image/gif"/>
  <Override PartName="/ppt/media/image17.wmf" ContentType="image/x-wmf"/>
  <Override PartName="/ppt/media/image23.gif" ContentType="image/gif"/>
  <Override PartName="/ppt/media/image14.wmf" ContentType="image/x-wmf"/>
  <Override PartName="/ppt/media/image20.gif" ContentType="image/gif"/>
  <Override PartName="/ppt/media/image16.wmf" ContentType="image/x-wmf"/>
  <Override PartName="/ppt/media/image4.jpeg" ContentType="image/jpeg"/>
  <Override PartName="/ppt/media/glass.wav" ContentType="audio/x-wav"/>
  <Override PartName="/ppt/media/image1.jpeg" ContentType="image/jpeg"/>
  <Override PartName="/ppt/media/chimes.wav" ContentType="audio/x-wav"/>
  <Override PartName="/ppt/media/image18.png" ContentType="image/png"/>
  <Override PartName="/ppt/media/image15.gif" ContentType="image/gif"/>
  <Override PartName="/ppt/media/image3.jpeg" ContentType="image/jpeg"/>
  <Override PartName="/ppt/media/image8.gif" ContentType="image/gif"/>
  <Override PartName="/ppt/media/image21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E12-038E-44D3-A0C7-70BE311F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CFC-1701-43E0-9C59-D577364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18F-1EF4-4A2A-814E-A1031E9B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8A6-976D-4F61-A7FB-66229B9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6DF-C576-46E5-BABB-B2D6120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35B-95D7-4AFD-A3D5-2C4B577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CAB-7C9D-49BC-A01F-BE4C8266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81B-3465-4109-8484-57A7110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F82-3A57-4703-9647-F9C115DF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048-EBD3-481B-9B02-490205B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0CF-F979-44BD-8109-3D51657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253-A0BD-4757-96F2-6ACBE2D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A18-0646-422C-91DD-2219A11EB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las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373120" y="2352600"/>
            <a:ext cx="52606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1.2.2  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数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1011240"/>
            <a:ext cx="45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弹簧秤制作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4280" y="1978200"/>
            <a:ext cx="55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标记不挂物体时弹簧的位置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640" y="3246480"/>
            <a:ext cx="59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标记挂确定质量（如：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g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280" y="4510080"/>
            <a:ext cx="61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将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分成若干份（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份，每份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g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73800" y="1444680"/>
            <a:ext cx="250668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47880" y="20732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47880" y="3294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903240" y="45576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683240" y="485640"/>
            <a:ext cx="1081080" cy="1273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14560" y="1658880"/>
            <a:ext cx="749448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“正、负”的规定具有相对性，正数和负数表示相反意义的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如果向东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米记作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米，那么向南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米，能否记作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米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引进负数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Ⅰ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相反意义的量；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Ⅱ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计算的需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6920" y="41400"/>
            <a:ext cx="4914360" cy="1344600"/>
            <a:chOff x="2536920" y="41400"/>
            <a:chExt cx="4914360" cy="1344600"/>
          </a:xfrm>
        </p:grpSpPr>
        <p:sp>
          <p:nvSpPr>
            <p:cNvPr id="178" name="desk1"/>
            <p:cNvSpPr/>
            <p:nvPr/>
          </p:nvSpPr>
          <p:spPr>
            <a:xfrm>
              <a:off x="2536920" y="480960"/>
              <a:ext cx="2719080" cy="905040"/>
            </a:xfrm>
            <a:prstGeom prst="pie">
              <a:avLst/>
            </a:prstGeom>
            <a:solidFill>
              <a:srgbClr val="ff00ff">
                <a:alpha val="42000"/>
              </a:srgbClr>
            </a:solidFill>
            <a:ln w="9360">
              <a:solidFill>
                <a:srgbClr val="3366ff"/>
              </a:solidFill>
              <a:miter/>
            </a:ln>
            <a:effectLst>
              <a:outerShdw dist="153753" dir="2700000" blurRad="0" rotWithShape="0">
                <a:srgbClr val="ff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知识回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5984640" y="41400"/>
              <a:ext cx="1466640" cy="134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98560" y="118908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一条东西向的马路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个汽车站，汽车站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东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7.5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分别有一棵柳树和一棵杨树，汽车站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西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4.8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分别有一棵槐树和一根电线杆，试画图表示这一情境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491328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07000" y="4932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65680" y="4948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30400" y="49561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7000" y="4957920"/>
            <a:ext cx="10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6720" y="4265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77200" y="426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361800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汽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4336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柳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6920" y="4336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杨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4560" y="4336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槐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353520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线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5680" y="4932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5280" y="491328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4805280"/>
            <a:ext cx="0" cy="1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8920" y="4805280"/>
            <a:ext cx="0" cy="1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4880" y="4794120"/>
            <a:ext cx="0" cy="1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805280"/>
            <a:ext cx="0" cy="1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4784760"/>
            <a:ext cx="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1640" y="1762200"/>
            <a:ext cx="7562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上图中是怎样用数简明地表示这些树、电线杆与汽车站的相对位置关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84080" y="4851360"/>
            <a:ext cx="1247760" cy="1181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08400" y="3527280"/>
            <a:ext cx="5835600" cy="1324080"/>
          </a:xfrm>
          <a:prstGeom prst="wedgeRoundRectCallout">
            <a:avLst>
              <a:gd name="adj1" fmla="val -56148"/>
              <a:gd name="adj2" fmla="val 81175"/>
              <a:gd name="adj3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把正、负数用一条直线上的点来表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719440" y="343080"/>
            <a:ext cx="3519360" cy="1185840"/>
            <a:chOff x="2719440" y="343080"/>
            <a:chExt cx="3519360" cy="11858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286600" y="3430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Cloud"/>
            <p:cNvSpPr/>
            <p:nvPr/>
          </p:nvSpPr>
          <p:spPr>
            <a:xfrm>
              <a:off x="2719440" y="343080"/>
              <a:ext cx="256716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240000" y="495360"/>
              <a:ext cx="15242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>
    <p:cover dir="l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6419880" y="1687680"/>
            <a:ext cx="1123920" cy="4032000"/>
            <a:chOff x="6419880" y="1687680"/>
            <a:chExt cx="1123920" cy="4032000"/>
          </a:xfrm>
        </p:grpSpPr>
        <p:sp>
          <p:nvSpPr>
            <p:cNvPr id="208" name=""/>
            <p:cNvSpPr/>
            <p:nvPr/>
          </p:nvSpPr>
          <p:spPr>
            <a:xfrm>
              <a:off x="6464160" y="1687680"/>
              <a:ext cx="107964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4520" y="5072040"/>
              <a:ext cx="358920" cy="43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67720" y="2047680"/>
              <a:ext cx="244440" cy="30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8840" y="47844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38840" y="384804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37400" y="248112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5840" y="448308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1680" y="4165560"/>
              <a:ext cx="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0240" y="350172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0240" y="315720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2811240"/>
              <a:ext cx="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62720" y="3674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46116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8560" y="22939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81760" y="4798800"/>
              <a:ext cx="233280" cy="3520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867360" y="2478240"/>
            <a:ext cx="233640" cy="2320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155000" y="2463840"/>
            <a:ext cx="503280" cy="2305080"/>
            <a:chOff x="7155000" y="2463840"/>
            <a:chExt cx="503280" cy="2305080"/>
          </a:xfrm>
        </p:grpSpPr>
        <p:sp>
          <p:nvSpPr>
            <p:cNvPr id="225" name=""/>
            <p:cNvSpPr/>
            <p:nvPr/>
          </p:nvSpPr>
          <p:spPr>
            <a:xfrm>
              <a:off x="7155000" y="47689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55000" y="24638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26280" y="2492280"/>
              <a:ext cx="0" cy="22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26280" y="3400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241280" y="861840"/>
            <a:ext cx="73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温度计，体会数与形的对应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2840" y="33894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与形是一一对应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42920" y="109548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用一条直线上的点表示有理数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4341960"/>
            <a:ext cx="7162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要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原点、正方向、单位长度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71640" y="2793960"/>
            <a:ext cx="6408720" cy="142920"/>
            <a:chOff x="971640" y="2793960"/>
            <a:chExt cx="6408720" cy="142920"/>
          </a:xfrm>
        </p:grpSpPr>
        <p:sp>
          <p:nvSpPr>
            <p:cNvPr id="234" name=""/>
            <p:cNvSpPr/>
            <p:nvPr/>
          </p:nvSpPr>
          <p:spPr>
            <a:xfrm>
              <a:off x="971640" y="2936880"/>
              <a:ext cx="6408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236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51280" y="2793960"/>
              <a:ext cx="0" cy="1429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236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200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164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3272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2720" y="2865240"/>
              <a:ext cx="0" cy="7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042920" y="30812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    0      1       2       3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11200" y="1693800"/>
            <a:ext cx="806436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数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规定了原点、正方向和单位长度的直线叫做数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28800" y="4330800"/>
            <a:ext cx="71276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要素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原点、正方向、单位长度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973240" y="563400"/>
            <a:ext cx="3838680" cy="782640"/>
            <a:chOff x="2973240" y="563400"/>
            <a:chExt cx="3838680" cy="78264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5811840" y="5634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973240" y="676080"/>
              <a:ext cx="2662200" cy="66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333399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hockwaveFlash1" descr=""/>
          <p:cNvPicPr/>
          <p:nvPr/>
        </p:nvPicPr>
        <p:blipFill>
          <a:blip r:embed="rId1"/>
          <a:stretch/>
        </p:blipFill>
        <p:spPr>
          <a:xfrm>
            <a:off x="1569960" y="958680"/>
            <a:ext cx="6067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3505320" y="531648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483084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89840" y="483084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89840" y="483084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89200" y="4703760"/>
            <a:ext cx="4680" cy="12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68880" y="481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1440" y="481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644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0836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6992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2772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1332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4480" y="4703760"/>
            <a:ext cx="0" cy="12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5080" y="481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20000" y="4813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480" y="4813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00480" y="481392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8120" y="4813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81560" y="17794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１）取原点；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18280" y="24336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２）规定正方向，通常取向右为正方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48920" y="32227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３）选取适当的长度为单位长度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5320" y="876240"/>
            <a:ext cx="245592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数轴的画法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in" orient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19320" y="420840"/>
            <a:ext cx="7162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168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判断下面所画数轴是否正确，并说明理由</a:t>
            </a:r>
            <a:r>
              <a:rPr b="1" lang="en-US" sz="1800" spc="1" strike="noStrike">
                <a:ln w="3168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.</a:t>
            </a:r>
            <a:endParaRPr b="1" lang="en-US" sz="1800" spc="1" strike="noStrike">
              <a:ln w="3168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  <p:sp>
        <p:nvSpPr>
          <p:cNvPr id="273" name="未知"/>
          <p:cNvSpPr/>
          <p:nvPr/>
        </p:nvSpPr>
        <p:spPr>
          <a:xfrm>
            <a:off x="1676520" y="1447920"/>
            <a:ext cx="2286000" cy="228600"/>
          </a:xfrm>
          <a:custGeom>
            <a:avLst/>
            <a:gdLst/>
            <a:ahLst/>
            <a:rect l="l" t="t" r="r" b="b"/>
            <a:pathLst>
              <a:path w="1776" h="248">
                <a:moveTo>
                  <a:pt x="0" y="240"/>
                </a:moveTo>
                <a:cubicBezTo>
                  <a:pt x="176" y="120"/>
                  <a:pt x="352" y="0"/>
                  <a:pt x="528" y="0"/>
                </a:cubicBezTo>
                <a:cubicBezTo>
                  <a:pt x="704" y="0"/>
                  <a:pt x="848" y="232"/>
                  <a:pt x="1056" y="240"/>
                </a:cubicBezTo>
                <a:cubicBezTo>
                  <a:pt x="1264" y="248"/>
                  <a:pt x="1656" y="80"/>
                  <a:pt x="1776" y="48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809880" y="1447560"/>
            <a:ext cx="609840" cy="759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4346640"/>
            <a:ext cx="144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15238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14479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12952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895480" y="1795320"/>
            <a:ext cx="13968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17920" y="1676520"/>
            <a:ext cx="13968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158920" y="1566720"/>
            <a:ext cx="27936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1676520" y="144792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39"/>
                </a:moveTo>
                <a:cubicBezTo>
                  <a:pt x="143" y="70"/>
                  <a:pt x="285" y="0"/>
                  <a:pt x="428" y="0"/>
                </a:cubicBezTo>
                <a:cubicBezTo>
                  <a:pt x="571" y="0"/>
                  <a:pt x="688" y="135"/>
                  <a:pt x="856" y="139"/>
                </a:cubicBezTo>
                <a:cubicBezTo>
                  <a:pt x="1025" y="144"/>
                  <a:pt x="1343" y="46"/>
                  <a:pt x="1440" y="28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809880" y="1447560"/>
            <a:ext cx="609840" cy="759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1371600"/>
            <a:ext cx="838440" cy="3808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248520" y="1371600"/>
            <a:ext cx="2057400" cy="3808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371600"/>
            <a:ext cx="838440" cy="38088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248520" y="1371600"/>
            <a:ext cx="2057400" cy="3808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5238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137160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15238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638680" y="1752480"/>
            <a:ext cx="381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175248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391520" y="1600200"/>
            <a:ext cx="1904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514600"/>
            <a:ext cx="274320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3623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23623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3623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23623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733920" y="2664000"/>
            <a:ext cx="1522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2320" y="2666880"/>
            <a:ext cx="304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05320" y="4568760"/>
            <a:ext cx="304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124080" y="2666880"/>
            <a:ext cx="7632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2514600"/>
            <a:ext cx="274320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2362320"/>
            <a:ext cx="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400800" y="2664000"/>
            <a:ext cx="1522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3505320"/>
            <a:ext cx="27432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657600" y="365436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905120" y="3654360"/>
            <a:ext cx="3045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00400" y="3654360"/>
            <a:ext cx="7632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590920" y="365760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3505320"/>
            <a:ext cx="2971800" cy="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48720" y="365436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638680" y="3654360"/>
            <a:ext cx="30492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477120" y="365760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3526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419720"/>
            <a:ext cx="274320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42670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438280" y="4568760"/>
            <a:ext cx="1526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05120" y="4568760"/>
            <a:ext cx="759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42670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2670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4267080"/>
            <a:ext cx="0" cy="152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95480" y="4568760"/>
            <a:ext cx="30492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1" name=""/>
          <p:cNvSpPr/>
          <p:nvPr/>
        </p:nvSpPr>
        <p:spPr>
          <a:xfrm>
            <a:off x="5486400" y="4498920"/>
            <a:ext cx="2743200" cy="18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4346640"/>
            <a:ext cx="180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477120" y="4648320"/>
            <a:ext cx="1522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4" name=""/>
          <p:cNvSpPr/>
          <p:nvPr/>
        </p:nvSpPr>
        <p:spPr>
          <a:xfrm>
            <a:off x="7620120" y="4346640"/>
            <a:ext cx="144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4346640"/>
            <a:ext cx="1440" cy="1522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010280" y="4648320"/>
            <a:ext cx="7632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162920" y="3657600"/>
            <a:ext cx="759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91320" y="4648320"/>
            <a:ext cx="3045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543800" y="4651200"/>
            <a:ext cx="1522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52480" y="2664000"/>
            <a:ext cx="30492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-2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1" name=""/>
          <p:cNvSpPr/>
          <p:nvPr/>
        </p:nvSpPr>
        <p:spPr>
          <a:xfrm>
            <a:off x="723960" y="5079960"/>
            <a:ext cx="6019920" cy="1366920"/>
          </a:xfrm>
          <a:prstGeom prst="cloudCallout">
            <a:avLst>
              <a:gd name="adj1" fmla="val 70912"/>
              <a:gd name="adj2" fmla="val 260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原点、正方向、单位长度一个也不能少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33200" y="12668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78280" y="1230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55520" y="21556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2040" y="21366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33200" y="3132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17880" y="31399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1120" y="41083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52800" y="4146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8118360" y="4218120"/>
            <a:ext cx="1116000" cy="661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118360" y="1203480"/>
            <a:ext cx="825480" cy="5364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93840" y="2241720"/>
            <a:ext cx="825480" cy="5364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311040" y="3132000"/>
            <a:ext cx="825480" cy="5367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8102520" y="2260440"/>
            <a:ext cx="825480" cy="536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8182080" y="3244680"/>
            <a:ext cx="825480" cy="5367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393840" y="1298520"/>
            <a:ext cx="825480" cy="5367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311040" y="4151160"/>
            <a:ext cx="825480" cy="536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33560" y="1846440"/>
            <a:ext cx="5394240" cy="404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65560" y="58500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65200" y="0"/>
            <a:ext cx="2849400" cy="1709640"/>
            <a:chOff x="3265200" y="0"/>
            <a:chExt cx="2849400" cy="1709640"/>
          </a:xfrm>
        </p:grpSpPr>
        <p:sp>
          <p:nvSpPr>
            <p:cNvPr id="45" name="filecab3"/>
            <p:cNvSpPr/>
            <p:nvPr/>
          </p:nvSpPr>
          <p:spPr>
            <a:xfrm rot="10800000">
              <a:off x="326520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88296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922320"/>
            <a:ext cx="59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画数轴时要注意以下四点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23320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画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087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在直线上取一点作为原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38703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确定正方向，并用箭头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678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根据需要选取适当单位长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472080" y="1563840"/>
            <a:ext cx="1833840" cy="1833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542880" y="4091040"/>
            <a:ext cx="8153280" cy="719640"/>
            <a:chOff x="542880" y="4091040"/>
            <a:chExt cx="8153280" cy="719640"/>
          </a:xfrm>
        </p:grpSpPr>
        <p:sp>
          <p:nvSpPr>
            <p:cNvPr id="365" name=""/>
            <p:cNvSpPr/>
            <p:nvPr/>
          </p:nvSpPr>
          <p:spPr>
            <a:xfrm>
              <a:off x="542880" y="4246200"/>
              <a:ext cx="792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67560" y="42462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540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9760" y="422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2360" y="422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6696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5264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9080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4860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3420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19800" y="4091040"/>
              <a:ext cx="0" cy="15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16760" y="422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1160" y="422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81760" y="4229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43680" y="4229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5240" y="4229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86680" y="4113000"/>
              <a:ext cx="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52360" y="4098600"/>
              <a:ext cx="0" cy="14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8600" y="422928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71040" y="422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175280" y="550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4560" y="1100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6560" y="4876920"/>
            <a:ext cx="712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任何一个有理数都可以用数轴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一个点来表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36680" y="1389240"/>
            <a:ext cx="70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数轴上表示下列各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45920" y="24112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243216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59400" y="41101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16240" y="40910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22680" y="4113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05680" y="40989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495600" y="2189160"/>
            <a:ext cx="266760" cy="8636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83160" y="3321000"/>
            <a:ext cx="266760" cy="8636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136520" y="306360"/>
            <a:ext cx="2620800" cy="852480"/>
            <a:chOff x="1136520" y="306360"/>
            <a:chExt cx="2620800" cy="852480"/>
          </a:xfrm>
        </p:grpSpPr>
        <p:sp>
          <p:nvSpPr>
            <p:cNvPr id="398" name=""/>
            <p:cNvSpPr/>
            <p:nvPr/>
          </p:nvSpPr>
          <p:spPr>
            <a:xfrm>
              <a:off x="1604880" y="36504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1136520" y="30636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997680" y="665280"/>
            <a:ext cx="1407960" cy="1447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120320" y="336852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71480" y="33685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29360" y="3368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089000" y="954000"/>
            <a:ext cx="75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观察数轴，哪些数在原点的左边，哪些数在原点的右边，由此你会发现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42880" y="3394080"/>
            <a:ext cx="8153280" cy="720360"/>
            <a:chOff x="542880" y="3394080"/>
            <a:chExt cx="8153280" cy="720360"/>
          </a:xfrm>
        </p:grpSpPr>
        <p:sp>
          <p:nvSpPr>
            <p:cNvPr id="406" name=""/>
            <p:cNvSpPr/>
            <p:nvPr/>
          </p:nvSpPr>
          <p:spPr>
            <a:xfrm>
              <a:off x="542880" y="3549600"/>
              <a:ext cx="792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67560" y="3549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0540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89760" y="353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02360" y="353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6696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5264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9080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4860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420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9800" y="3394080"/>
              <a:ext cx="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16760" y="353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160" y="353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1760" y="35330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43680" y="35330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5240" y="35330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86680" y="3416400"/>
              <a:ext cx="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52360" y="3402000"/>
              <a:ext cx="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600" y="353304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1040" y="353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825640" y="4645080"/>
            <a:ext cx="295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负数的点在原点的左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正数的点在原点的右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154160" y="932040"/>
            <a:ext cx="73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轴上每个数到原点的距离是多少？由此你会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040" y="3591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478720" y="35910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1656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00920" y="357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13520" y="357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7812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6380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0196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5976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536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30960" y="3435480"/>
            <a:ext cx="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27920" y="357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42320" y="357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92920" y="35740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454840" y="35740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616400" y="35740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097840" y="3457440"/>
            <a:ext cx="0" cy="1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63520" y="34434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35740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882200" y="357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838080" y="1981080"/>
            <a:ext cx="7802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设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正数，则数轴上表示数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点在原点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，与原点的距离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单位长度；表示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点在原点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，与原点的距离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位长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2711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948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3295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675480" y="39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483000" y="750960"/>
            <a:ext cx="2770200" cy="947520"/>
            <a:chOff x="3483000" y="750960"/>
            <a:chExt cx="2770200" cy="947520"/>
          </a:xfrm>
        </p:grpSpPr>
        <p:sp>
          <p:nvSpPr>
            <p:cNvPr id="454" name=""/>
            <p:cNvSpPr txBox="1"/>
            <p:nvPr/>
          </p:nvSpPr>
          <p:spPr>
            <a:xfrm>
              <a:off x="3483000" y="974520"/>
              <a:ext cx="14414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5346720" y="7509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779400" y="2428920"/>
            <a:ext cx="60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数轴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9400" y="3292560"/>
            <a:ext cx="80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数轴的三要素：原点、正方向、长度单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79400" y="4219560"/>
            <a:ext cx="68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数与形的关系：一一对应的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276360" y="95400"/>
            <a:ext cx="2849400" cy="1709640"/>
            <a:chOff x="3276360" y="95400"/>
            <a:chExt cx="2849400" cy="1709640"/>
          </a:xfrm>
        </p:grpSpPr>
        <p:sp>
          <p:nvSpPr>
            <p:cNvPr id="460" name="filecab3"/>
            <p:cNvSpPr/>
            <p:nvPr/>
          </p:nvSpPr>
          <p:spPr>
            <a:xfrm rot="10800000">
              <a:off x="3276360" y="9666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3894120" y="9540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3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595440" y="4675320"/>
            <a:ext cx="8153280" cy="808560"/>
            <a:chOff x="595440" y="4675320"/>
            <a:chExt cx="8153280" cy="808560"/>
          </a:xfrm>
        </p:grpSpPr>
        <p:sp>
          <p:nvSpPr>
            <p:cNvPr id="463" name=""/>
            <p:cNvSpPr/>
            <p:nvPr/>
          </p:nvSpPr>
          <p:spPr>
            <a:xfrm>
              <a:off x="595440" y="4919400"/>
              <a:ext cx="792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20120" y="49194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57960" y="4675320"/>
              <a:ext cx="0" cy="24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2320" y="490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4920" y="490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952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8144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4336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0116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676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7236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9320" y="490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3720" y="490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60880" y="4902480"/>
              <a:ext cx="86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22800" y="49024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84360" y="49024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3924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04920" y="4770360"/>
              <a:ext cx="0" cy="14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7720" y="4902480"/>
              <a:ext cx="7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23600" y="490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481120" y="415548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75280" y="582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54560" y="146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93600" y="175104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画出数轴，并用数轴上的点表示下列各数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81560" y="4089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92520" y="413244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19640" y="4176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583400" y="3948120"/>
            <a:ext cx="266760" cy="8636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7566120" y="4770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52560" y="47563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55840" y="475452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9080" y="4770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72280" y="4770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28600" y="2817720"/>
            <a:ext cx="7010280" cy="863640"/>
            <a:chOff x="1128600" y="2817720"/>
            <a:chExt cx="7010280" cy="863640"/>
          </a:xfrm>
        </p:grpSpPr>
        <p:sp>
          <p:nvSpPr>
            <p:cNvPr id="497" name=""/>
            <p:cNvSpPr/>
            <p:nvPr/>
          </p:nvSpPr>
          <p:spPr>
            <a:xfrm>
              <a:off x="1128600" y="295884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98640" y="2973240"/>
              <a:ext cx="279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3441600" y="2817720"/>
              <a:ext cx="26676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"/>
          <p:cNvGrpSpPr/>
          <p:nvPr/>
        </p:nvGrpSpPr>
        <p:grpSpPr>
          <a:xfrm>
            <a:off x="3266640" y="-74520"/>
            <a:ext cx="2849400" cy="1707840"/>
            <a:chOff x="3266640" y="-74520"/>
            <a:chExt cx="2849400" cy="1707840"/>
          </a:xfrm>
        </p:grpSpPr>
        <p:sp>
          <p:nvSpPr>
            <p:cNvPr id="501" name="filecab3"/>
            <p:cNvSpPr/>
            <p:nvPr/>
          </p:nvSpPr>
          <p:spPr>
            <a:xfrm rot="10800000">
              <a:off x="3266640" y="795600"/>
              <a:ext cx="2849400" cy="83736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3884400" y="-74520"/>
              <a:ext cx="1619280" cy="121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19120" y="4226040"/>
            <a:ext cx="6521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；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；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44520" y="641520"/>
            <a:ext cx="72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指出数轴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各点分别表示什么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44520" y="2006640"/>
            <a:ext cx="6762600" cy="1356840"/>
            <a:chOff x="1244520" y="2006640"/>
            <a:chExt cx="6762600" cy="1356840"/>
          </a:xfrm>
        </p:grpSpPr>
        <p:sp>
          <p:nvSpPr>
            <p:cNvPr id="506" name=""/>
            <p:cNvSpPr/>
            <p:nvPr/>
          </p:nvSpPr>
          <p:spPr>
            <a:xfrm>
              <a:off x="1244520" y="2798640"/>
              <a:ext cx="67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95680" y="26560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80040" y="2782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93000" y="2782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59040" y="26560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20960" y="267012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240680" y="2670120"/>
              <a:ext cx="144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26280" y="26560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1880" y="26560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07400" y="2782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1800" y="2782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98600" y="2782080"/>
              <a:ext cx="94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0520" y="27820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97440" y="2076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0160" y="207972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77160" y="2048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48800" y="2048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24080" y="2670120"/>
              <a:ext cx="27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69920" y="26575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46640" y="2670120"/>
              <a:ext cx="27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200" y="2656080"/>
              <a:ext cx="27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36920" y="2656080"/>
              <a:ext cx="27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90920" y="2670120"/>
              <a:ext cx="27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0066"/>
                  </a:solidFill>
                  <a:latin typeface="Times New Roman"/>
                </a:rPr>
                <a:t>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30360" y="27820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81840" y="2006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1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2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5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504720" y="2376360"/>
            <a:ext cx="8190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轴上表示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在原点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侧，距原点的距离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表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在原点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侧，距原点的距离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08840" y="38354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16720" y="2519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2000" y="3835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6800" y="314964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63760" y="1285920"/>
            <a:ext cx="27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填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807000" y="11541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16200" y="847800"/>
            <a:ext cx="5862600" cy="4660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89480" y="559116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95480" y="1935000"/>
            <a:ext cx="7254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温度计是我们日常生活中用来测量温度的重要工具，你会读温度计吗？请你尝试读出图中三个温度计所表示的温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400040" y="533520"/>
            <a:ext cx="1114200" cy="5279400"/>
            <a:chOff x="1400040" y="533520"/>
            <a:chExt cx="1114200" cy="5279400"/>
          </a:xfrm>
        </p:grpSpPr>
        <p:grpSp>
          <p:nvGrpSpPr>
            <p:cNvPr id="51" name=""/>
            <p:cNvGrpSpPr/>
            <p:nvPr/>
          </p:nvGrpSpPr>
          <p:grpSpPr>
            <a:xfrm>
              <a:off x="1400040" y="533520"/>
              <a:ext cx="1114200" cy="5279400"/>
              <a:chOff x="1400040" y="533520"/>
              <a:chExt cx="1114200" cy="5279400"/>
            </a:xfrm>
          </p:grpSpPr>
          <p:sp>
            <p:nvSpPr>
              <p:cNvPr id="52" name=""/>
              <p:cNvSpPr/>
              <p:nvPr/>
            </p:nvSpPr>
            <p:spPr>
              <a:xfrm>
                <a:off x="2168280" y="533520"/>
                <a:ext cx="228600" cy="502884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5028840"/>
                  <a:gd name="textAreaBottom" fmla="*/ 5017680 h 5028840"/>
                </a:gdLst>
                <a:ahLst/>
                <a:rect l="textAreaLeft" t="textAreaTop" r="textAreaRight" b="textAreaBottom"/>
                <a:pathLst>
                  <a:path w="21600" h="474453">
                    <a:moveTo>
                      <a:pt x="3600" y="0"/>
                    </a:moveTo>
                    <a:arcTo wR="3600" hR="3600" stAng="16200000" swAng="-5400000"/>
                    <a:lnTo>
                      <a:pt x="0" y="470853"/>
                    </a:lnTo>
                    <a:arcTo wR="3600" hR="3600" stAng="10800000" swAng="-5400000"/>
                    <a:lnTo>
                      <a:pt x="18000" y="4744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404720" y="320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06520" y="32000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0040" y="3504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00040" y="3822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06520" y="4092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458720" y="533520"/>
                <a:ext cx="1055520" cy="5279400"/>
                <a:chOff x="1458720" y="533520"/>
                <a:chExt cx="1055520" cy="52794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168280" y="533520"/>
                  <a:ext cx="228600" cy="144756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1447560"/>
                    <a:gd name="textAreaBottom" fmla="*/ 1436400 h 1447560"/>
                  </a:gdLst>
                  <a:ahLst/>
                  <a:rect l="textAreaLeft" t="textAreaTop" r="textAreaRight" b="textAreaBottom"/>
                  <a:pathLst>
                    <a:path w="21600" h="136596">
                      <a:moveTo>
                        <a:pt x="3600" y="0"/>
                      </a:moveTo>
                      <a:arcTo wR="3600" hR="3600" stAng="16200000" swAng="-5400000"/>
                      <a:lnTo>
                        <a:pt x="0" y="132996"/>
                      </a:lnTo>
                      <a:arcTo wR="3600" hR="3600" stAng="10800000" swAng="-5400000"/>
                      <a:lnTo>
                        <a:pt x="18000" y="13659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057040" y="5356080"/>
                  <a:ext cx="457200" cy="45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168280" y="5181480"/>
                  <a:ext cx="228600" cy="3805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16000" y="312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016000" y="3428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016000" y="2819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16000" y="3733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16000" y="4038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016000" y="251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016000" y="2209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16000" y="1887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16000" y="1599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016000" y="12952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016000" y="4343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626840" y="2572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558800" y="2895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558800" y="22921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458720" y="1981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69880" y="1630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504800" y="10490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493640" y="134136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174760" y="485892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2168280" y="534600"/>
              <a:ext cx="228600" cy="19810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1981080"/>
                <a:gd name="textAreaBottom" fmla="*/ 1969920 h 1981080"/>
              </a:gdLst>
              <a:ahLst/>
              <a:rect l="textAreaLeft" t="textAreaTop" r="textAreaRight" b="textAreaBottom"/>
              <a:pathLst>
                <a:path w="21600" h="186928">
                  <a:moveTo>
                    <a:pt x="3600" y="0"/>
                  </a:moveTo>
                  <a:arcTo wR="3600" hR="3600" stAng="16200000" swAng="-5400000"/>
                  <a:lnTo>
                    <a:pt x="0" y="183328"/>
                  </a:lnTo>
                  <a:arcTo wR="3600" hR="3600" stAng="10800000" swAng="-5400000"/>
                  <a:lnTo>
                    <a:pt x="18000" y="186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14640" y="555480"/>
            <a:ext cx="1114200" cy="5280120"/>
            <a:chOff x="3914640" y="555480"/>
            <a:chExt cx="1114200" cy="5280120"/>
          </a:xfrm>
        </p:grpSpPr>
        <p:grpSp>
          <p:nvGrpSpPr>
            <p:cNvPr id="83" name=""/>
            <p:cNvGrpSpPr/>
            <p:nvPr/>
          </p:nvGrpSpPr>
          <p:grpSpPr>
            <a:xfrm>
              <a:off x="3914640" y="555480"/>
              <a:ext cx="1114200" cy="5280120"/>
              <a:chOff x="3914640" y="555480"/>
              <a:chExt cx="1114200" cy="5280120"/>
            </a:xfrm>
          </p:grpSpPr>
          <p:sp>
            <p:nvSpPr>
              <p:cNvPr id="84" name=""/>
              <p:cNvSpPr/>
              <p:nvPr/>
            </p:nvSpPr>
            <p:spPr>
              <a:xfrm>
                <a:off x="4682880" y="555480"/>
                <a:ext cx="228600" cy="502920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5029200"/>
                  <a:gd name="textAreaBottom" fmla="*/ 5018040 h 5029200"/>
                </a:gdLst>
                <a:ahLst/>
                <a:rect l="textAreaLeft" t="textAreaTop" r="textAreaRight" b="textAreaBottom"/>
                <a:pathLst>
                  <a:path w="21600" h="474487">
                    <a:moveTo>
                      <a:pt x="3600" y="0"/>
                    </a:moveTo>
                    <a:arcTo wR="3600" hR="3600" stAng="16200000" swAng="-5400000"/>
                    <a:lnTo>
                      <a:pt x="0" y="470887"/>
                    </a:lnTo>
                    <a:arcTo wR="3600" hR="3600" stAng="10800000" swAng="-5400000"/>
                    <a:lnTo>
                      <a:pt x="18000" y="47448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19320" y="3224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921120" y="32223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14640" y="3527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14640" y="384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2112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973320" y="555480"/>
                <a:ext cx="1055520" cy="5280120"/>
                <a:chOff x="3973320" y="555480"/>
                <a:chExt cx="1055520" cy="5280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682880" y="555480"/>
                  <a:ext cx="228600" cy="144792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1447920"/>
                    <a:gd name="textAreaBottom" fmla="*/ 1436760 h 1447920"/>
                  </a:gdLst>
                  <a:ahLst/>
                  <a:rect l="textAreaLeft" t="textAreaTop" r="textAreaRight" b="textAreaBottom"/>
                  <a:pathLst>
                    <a:path w="21600" h="136630">
                      <a:moveTo>
                        <a:pt x="3600" y="0"/>
                      </a:moveTo>
                      <a:arcTo wR="3600" hR="3600" stAng="16200000" swAng="-5400000"/>
                      <a:lnTo>
                        <a:pt x="0" y="133030"/>
                      </a:lnTo>
                      <a:arcTo wR="3600" hR="3600" stAng="10800000" swAng="-5400000"/>
                      <a:lnTo>
                        <a:pt x="18000" y="1366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571640" y="5378400"/>
                  <a:ext cx="45720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682880" y="5203800"/>
                  <a:ext cx="228600" cy="380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30600" y="3146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30600" y="3450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0600" y="2841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530600" y="3755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530600" y="4060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30600" y="2536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530600" y="22320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30600" y="1909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530600" y="1622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30600" y="131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30600" y="4365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41440" y="25952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73400" y="2917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073400" y="23144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73320" y="20034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984480" y="16524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19400" y="107136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08240" y="13636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89360" y="48812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4682880" y="555480"/>
              <a:ext cx="228600" cy="28954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895480"/>
                <a:gd name="textAreaBottom" fmla="*/ 2884320 h 2895480"/>
              </a:gdLst>
              <a:ahLst/>
              <a:rect l="textAreaLeft" t="textAreaTop" r="textAreaRight" b="textAreaBottom"/>
              <a:pathLst>
                <a:path w="21600" h="273192">
                  <a:moveTo>
                    <a:pt x="3600" y="0"/>
                  </a:moveTo>
                  <a:arcTo wR="3600" hR="3600" stAng="16200000" swAng="-5400000"/>
                  <a:lnTo>
                    <a:pt x="0" y="269592"/>
                  </a:lnTo>
                  <a:arcTo wR="3600" hR="3600" stAng="10800000" swAng="-5400000"/>
                  <a:lnTo>
                    <a:pt x="18000" y="2731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519960" y="609480"/>
            <a:ext cx="1113840" cy="5280120"/>
            <a:chOff x="6519960" y="609480"/>
            <a:chExt cx="1113840" cy="5280120"/>
          </a:xfrm>
        </p:grpSpPr>
        <p:grpSp>
          <p:nvGrpSpPr>
            <p:cNvPr id="115" name=""/>
            <p:cNvGrpSpPr/>
            <p:nvPr/>
          </p:nvGrpSpPr>
          <p:grpSpPr>
            <a:xfrm>
              <a:off x="6519960" y="609480"/>
              <a:ext cx="1113840" cy="5280120"/>
              <a:chOff x="6519960" y="609480"/>
              <a:chExt cx="1113840" cy="5280120"/>
            </a:xfrm>
          </p:grpSpPr>
          <p:sp>
            <p:nvSpPr>
              <p:cNvPr id="116" name=""/>
              <p:cNvSpPr/>
              <p:nvPr/>
            </p:nvSpPr>
            <p:spPr>
              <a:xfrm>
                <a:off x="7287840" y="609480"/>
                <a:ext cx="228240" cy="502920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5029200"/>
                  <a:gd name="textAreaBottom" fmla="*/ 5018400 h 5029200"/>
                </a:gdLst>
                <a:ahLst/>
                <a:rect l="textAreaLeft" t="textAreaTop" r="textAreaRight" b="textAreaBottom"/>
                <a:pathLst>
                  <a:path w="21600" h="475234">
                    <a:moveTo>
                      <a:pt x="3600" y="0"/>
                    </a:moveTo>
                    <a:arcTo wR="3600" hR="3600" stAng="16200000" swAng="-5400000"/>
                    <a:lnTo>
                      <a:pt x="0" y="471634"/>
                    </a:lnTo>
                    <a:arcTo wR="3600" hR="3600" stAng="10800000" swAng="-5400000"/>
                    <a:lnTo>
                      <a:pt x="18000" y="4752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24280" y="327816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26080" y="327636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19960" y="35812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19960" y="38988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26080" y="41688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6578280" y="609480"/>
                <a:ext cx="1055520" cy="5280120"/>
                <a:chOff x="6578280" y="609480"/>
                <a:chExt cx="1055520" cy="5280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7287840" y="609480"/>
                  <a:ext cx="228600" cy="144792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1447920"/>
                    <a:gd name="textAreaBottom" fmla="*/ 1436760 h 1447920"/>
                  </a:gdLst>
                  <a:ahLst/>
                  <a:rect l="textAreaLeft" t="textAreaTop" r="textAreaRight" b="textAreaBottom"/>
                  <a:pathLst>
                    <a:path w="21600" h="136630">
                      <a:moveTo>
                        <a:pt x="3600" y="0"/>
                      </a:moveTo>
                      <a:arcTo wR="3600" hR="3600" stAng="16200000" swAng="-5400000"/>
                      <a:lnTo>
                        <a:pt x="0" y="133030"/>
                      </a:lnTo>
                      <a:arcTo wR="3600" hR="3600" stAng="10800000" swAng="-5400000"/>
                      <a:lnTo>
                        <a:pt x="18000" y="1366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176600" y="5432400"/>
                  <a:ext cx="45720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87840" y="5257800"/>
                  <a:ext cx="228600" cy="3808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35560" y="3200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135560" y="3504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35560" y="2895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35560" y="380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135560" y="4114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135560" y="2590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135560" y="22860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35560" y="196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135560" y="1676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135560" y="1371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135560" y="4419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746400" y="26492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78360" y="2971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78360" y="23684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78280" y="20574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89440" y="17064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24360" y="112536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13200" y="14176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94320" y="49352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7281720" y="610920"/>
              <a:ext cx="228240" cy="22860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0"/>
                <a:gd name="textAreaBottom" fmla="*/ 2275200 h 2286000"/>
              </a:gdLst>
              <a:ahLst/>
              <a:rect l="textAreaLeft" t="textAreaTop" r="textAreaRight" b="textAreaBottom"/>
              <a:pathLst>
                <a:path w="21600" h="216034">
                  <a:moveTo>
                    <a:pt x="3600" y="0"/>
                  </a:moveTo>
                  <a:arcTo wR="3600" hR="3600" stAng="16200000" swAng="-5400000"/>
                  <a:lnTo>
                    <a:pt x="0" y="212434"/>
                  </a:lnTo>
                  <a:arcTo wR="3600" hR="3600" stAng="10800000" swAng="-5400000"/>
                  <a:lnTo>
                    <a:pt x="18000" y="2160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36480" y="4935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5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75120" y="49672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10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440" y="4913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0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819440"/>
            <a:ext cx="824400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知识与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数轴的三要素，会画数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过程与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将已知有理数在数轴上表示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说出数轴上的已知点所表示的有理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理解有理数都可以用数轴上的点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24280"/>
            <a:ext cx="7543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153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84440" y="2463840"/>
            <a:ext cx="61815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情感态度与价值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渗透数形结合的数学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知道数学来源于实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培养对数学的学习兴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76360" y="0"/>
            <a:ext cx="2849400" cy="1709640"/>
            <a:chOff x="3276360" y="0"/>
            <a:chExt cx="2849400" cy="1709640"/>
          </a:xfrm>
        </p:grpSpPr>
        <p:sp>
          <p:nvSpPr>
            <p:cNvPr id="157" name="filecab3"/>
            <p:cNvSpPr/>
            <p:nvPr/>
          </p:nvSpPr>
          <p:spPr>
            <a:xfrm rot="10800000">
              <a:off x="3276360" y="87120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89412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60480" y="2033640"/>
            <a:ext cx="762012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理解数轴的概念，掌握有理数在数轴上的表示方法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有理数与数轴上的点的对应关系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06280" y="0"/>
            <a:ext cx="3551400" cy="1692000"/>
            <a:chOff x="2906280" y="0"/>
            <a:chExt cx="3551400" cy="1692000"/>
          </a:xfrm>
        </p:grpSpPr>
        <p:sp>
          <p:nvSpPr>
            <p:cNvPr id="162" name="filecab3"/>
            <p:cNvSpPr/>
            <p:nvPr/>
          </p:nvSpPr>
          <p:spPr>
            <a:xfrm rot="10800000">
              <a:off x="2906280" y="853200"/>
              <a:ext cx="3551400" cy="83844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教学重难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895560" y="0"/>
              <a:ext cx="16192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00680" y="674640"/>
            <a:ext cx="3738600" cy="5508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5760" y="4522680"/>
            <a:ext cx="1438200" cy="150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34920" y="1927080"/>
            <a:ext cx="3765600" cy="1629000"/>
          </a:xfrm>
          <a:prstGeom prst="wedgeRoundRectCallout">
            <a:avLst>
              <a:gd name="adj1" fmla="val -43972"/>
              <a:gd name="adj2" fmla="val 112185"/>
              <a:gd name="adj3" fmla="val 16667"/>
            </a:avLst>
          </a:prstGeom>
          <a:solidFill>
            <a:srgbClr val="cc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知道怎样制作一个弹簧秤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2:47Z</dcterms:created>
  <dc:creator/>
  <dc:description/>
  <cp:keywords/>
  <dc:language>en-US</dc:language>
  <cp:lastModifiedBy>微软用户</cp:lastModifiedBy>
  <dcterms:modified xsi:type="dcterms:W3CDTF">2014-06-30T00:54:22Z</dcterms:modified>
  <cp:revision>45</cp:revision>
  <dc:subject/>
  <dc:title>1.2.2 数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NXTAG2">
    <vt:lpwstr>000800a60e0000000000010250600207f7000400038000</vt:lpwstr>
  </property>
</Properties>
</file>